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91D9-26FE-4BE1-8333-A6A1957D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791-3154-4725-999B-8CB02C40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7F4F0-9BD0-477B-B8A7-C0F6B30B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E17D0-C6FB-46D0-A6D0-F6F30C63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37AD6-B593-4461-9B6F-09669967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D6DFD-4B15-43D5-9559-F2400106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9095A-051B-4043-9DBD-4B02DB64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296CA-B583-4836-B53F-ED40C8A2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BB97A-A343-47BC-9DD1-2B0387A0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F841F-DBEE-4D49-B18B-92F46A66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4F782-5A02-406C-A78B-09F672EE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D9CF5-2BC8-4337-A465-97983569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C14-022A-4254-A157-F4E7E017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DF8CB-562D-46B9-A1D9-2E02941E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E5E09-0072-4219-B5F2-7AC4537B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D2332-7703-4A79-AA37-70D63DC7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F1E0E-ECCB-40AA-A11B-490F01DC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B92C4-14AC-43AA-AC49-EEB9FE99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152E5-1723-4CB0-97D9-5938F85F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BDD51-3D8D-4AD1-BC70-3DB177C5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E6338-B195-45E9-A7B8-5F336BD2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2A441-35C5-4380-B755-BEEDC758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9379E-F432-4E6D-9A38-0FA6A6CC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4948-D053-46C7-B657-7471CADF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C35E4-77C0-4BA3-B78B-68EE08B9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1DFFF-7907-4141-9BAB-4AFD6269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1A75C-5D9F-4422-9663-2242AC5D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4B6AC-0EF2-4A46-8343-11D177F2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11073-100E-4C0D-8840-5549C29D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23B77-CC38-4C62-8C7F-D22B34A5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B3909-F673-430D-9F0B-A1A65A53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B370A-47EB-4865-8465-A66ECFD9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7208D-338C-4A8D-8E02-B2F590D1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7D0C7-0DBC-4A09-B313-90B3476F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1F78-5E94-48C3-8A6B-926857E2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F7A5D-29D2-465E-8CDE-A6EC6440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6E82D-2BBD-470E-8419-32355E85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2C0A7-5FDF-4E92-BAB0-35326E7A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6E660-8D08-4CA1-91AE-19CDF687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B2063-5785-4CBF-9C00-D047A5CB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B5D2F-D63B-42A5-8610-BF262861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3BE35-6C8F-4513-8554-29D93F65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B3DBA-DD2C-4687-A055-22CD6D5E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F68EC-E5D0-420D-AAA8-9EA718FA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483B0-AF9D-4A5C-8C1C-EB51AE38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CBDE-92A8-4990-843A-B648D31F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4F5E4-AC14-493F-BD8D-E7E0E4FE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48BF6-0B35-48ED-A83F-011F5699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F56FE-9409-45D1-A651-E08835BD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1CC5D-9370-42C9-893C-1B3584F5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25E1F-734A-4F6C-9513-0A122ADE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FD375-5CDF-4607-AF2D-0EEBA638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053003-E58A-4BAE-89EC-7556D116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4E17C-A906-44D8-906A-9FA62637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4F5EB-57E6-4B6C-A46B-82DF4596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4983B-7B14-4DE3-8A87-1D7243EC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F2A2-95C8-4FFA-B11D-54834C58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14067E-7D54-4CA4-97F0-B7777EB3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54F82-2614-460F-874D-6003B01B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83725-0EA3-40BC-A501-392605F3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66D61-8A55-4E1D-8930-6603C235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C5061-795E-4DDA-A147-25B81A38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C7D95-09E7-4912-8BD1-15321F99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21311-1F56-423C-97E8-3C0E02E1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6EE109-1A01-4FE4-AA89-490CEDD8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9C6794-032C-4E91-8AA2-17AB658A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850E41-E60F-46FF-A603-1CB92A01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1295-D59D-4E3A-8A65-9FEB0850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405468-4E3A-4147-A0AD-0F5B9EFD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0E6EE6-B70E-4E22-BF79-7C6E5227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C8B342-33C7-4A9B-9497-64DCFEE8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E0952C-E1B9-4F3D-84EE-0EEB6AE6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284E4B-9C2A-4B5B-B148-AECF319A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F87F88-9856-45EC-B71D-504ACD4A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9CDC2C-D996-461B-AB1E-2B2F282C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B058F4-F904-4691-A89C-A643CB89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DAF5F-3FF3-45F1-AF61-4DA3F35F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F4829D-7785-4182-9951-CE64015E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DA01-AC9F-4DD5-A6F3-9F7AF1F6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5141F4-F3E1-4C30-96E6-AC6C69F3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10656A-6BAB-49ED-B0D1-B9999A28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1DFCF0-27B7-4BAE-B4E9-97AE278C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A4DD3B-2865-4C82-A49F-83B7329B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EA9C71-9576-47F4-BB3E-4DC43E69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C55784-55E0-45C4-93F8-A3026963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02D0A5-545F-41DF-A3F9-E622AE6E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8087A-420E-43AD-B433-FF8F4D54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BF9576-A7BC-4C93-93F6-909C5F9A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FED206-7C31-4E24-99AD-4D776B6F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CC24-8294-49F5-9DC0-8025EEAB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EBE3BA-7588-4E23-A269-C1B777C9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487B6E-70DB-4090-9737-C97F7955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479EC6-F3C7-411E-A6ED-6B115F63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AC01CA-699A-4C1E-8DAE-F29B39D5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D3FBA2-FFC8-4DA2-85F4-5641D6BB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1E3B2D-65D1-4399-B0EF-D9942911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2ADDC2-4DA4-480E-8C19-26593EBE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ACFDB0-8676-4F50-87B9-A27BD1FF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AAD9DC-33DA-4AA0-B241-902505DF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622C2-5E6A-4CAC-A889-8AD87672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1CE8-8EDF-4288-B415-7BC260C5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FA8FE0-FBC3-4CA3-8311-D0B65645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A43FB8-F90A-466B-B697-CA31F810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82F923-DE49-4ECE-A75A-4237F527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402E7C-0253-425D-9FD0-CA44CB27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AD548D-D355-4FB9-908C-3CF36AD5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4629CD-09BB-48AB-B793-5F56607D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A424D9-5A31-4694-8E19-07367764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849AB7-E8C7-4616-8999-EFFD944A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8DEB8A-2E32-4E7C-ADC3-14E24919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DD4327-1621-42CE-857D-B8DBCFA7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2F3-5D61-449D-99C0-83A5BE53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347F-7D46-4377-BE5E-7356A336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8A7E61-C682-47DC-B32B-4ED8CF1F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A5BE37-C075-4374-ABF6-5AE0F41B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E013C5-25C0-4DFC-BE64-FE2A0077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F62BB9-F80E-45A8-B240-5D554207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DF08CB-E7BA-476D-AE69-EEF305EE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4D1653-4467-4C27-B7C0-53F6A597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69FF40-BF11-4B43-B6A8-A24ED651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970E40-7006-4DB7-A5E0-7C2FDB60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001738-E99D-47A0-9BF2-4FDEBF54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97CEC9-9779-48F3-8FBF-1B999E03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1D97-F408-4354-9889-A0C5D550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FE1E8F-A37A-4F58-BC8B-9FEBEDAA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6FF050-10F1-4F85-9C74-1602DF06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7702CC-D508-4AD4-B828-92892535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A5F4AA-C797-493B-A570-EF67A733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88481E-CEE0-4587-82C0-1A9304E5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D62C2A-1055-4E16-AA52-714FA63C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842D92-1996-457D-A6F8-98589732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AAC923-73D5-4F8B-966F-F684B52A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8C96A0-2342-4CF2-AC99-9CD988D0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C8384C-700E-48FE-9C69-7CFFCD78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A35C-BEF0-4E9D-9101-05DC47C6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D541DE-501B-4DE6-823C-79F432E2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37F37C-F91F-4192-B7F1-1105A24A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2118AB-90F1-410C-B2FD-7102335F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0A205D-8BE8-4D20-B3AA-C12FE6F8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AD3EE8-C342-4341-8FF2-66076A85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517936-3771-4FBE-BFAB-670F13BA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F21319-9E41-4817-BF29-6AF792A5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AA9B51-929B-443F-BE8F-25FC0F97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A01F81-923B-42CC-9323-58298BC1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60FBB9-A737-4B3E-B0C3-C1DCB448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CB89-1F47-40CB-A1C0-1F7F5385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62D43C-734E-4654-B7F9-EE661167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0DF27D-27FC-4375-B3FE-F8BF06B7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EE67AE-D4CB-4A95-8210-AB3FAA8D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FC520E-A8D2-4328-9021-1244A9CA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AB70ED-3977-4A6B-BA7D-AA388A4D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DF02BD-8DEB-4042-9A23-00A33E6C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7F1F3D-024E-416A-BA04-17E0DCB0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660A2F-AC0D-4B49-B487-24484D58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A24224-BB12-4175-A9DD-E3C94B3C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520E3D-B738-44DC-9E97-C2CC8CBE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1B47-C861-415F-A021-E302A76C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B2A06E-FBF7-49D4-967F-D77D7E07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A73BC3-B887-450D-BBBA-16138A79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89DA31-2325-4A48-8B49-1942E7EA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584DEB-C602-41E0-AC5E-57C6A920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601F05-A0C5-4638-B943-9548D4FA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284C1C-5F72-4FEE-B2F7-1767088F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744689-5B0D-413F-840B-1E5BAEEA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809061-ACCA-48E2-AB64-6AA597C9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4DC5B3-C2B2-4D08-9CC5-B233B558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B34FE2-64F9-4D81-B423-BA9EE72F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C8F31-2211-447E-9AE5-660754AD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E2F8B2-B98F-44F9-9A78-327BE9B5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03691F-81C5-4ED3-9E7E-01680D5D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D3FEB3-F75C-4A8A-B6D7-58ADEE55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D5ACA-5501-4E40-9544-3B948D6A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BA93A-1780-497C-A815-76C01DDF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6D63E-9155-4A64-BC39-2F3A1B83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FE4A0-A73A-4A58-B82F-1581ED46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7C1-52D1-4FEA-B716-077992CD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00C44-3D71-486E-8BF0-BA18AD87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C350F-C66F-4DBC-9C91-11B3F83E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EE38E-9059-4E99-A345-D912FFF4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D3C48-3CAD-4D19-9581-E3C25943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B1EDA-F241-4C99-B372-4CBF8180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52CAB-2C5E-4080-8E9A-83B8F200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19C04-2E1A-44B6-BA4B-4E4E36A9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12E8E-A03F-4C4F-8133-B61ADB7B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B0C1A-4042-4C55-85C8-739B3F69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C033E-F932-4A90-B946-9CF5E032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3B0-4930-46FA-9C62-37AE32AA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1A867-BA5F-416A-A90D-EA420323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5323F-4441-4A86-ABDD-AF14E521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6ED38-1881-4E52-BA35-F0062FEC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33E14-CC85-40F1-ACF0-AF8CA7DF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1502B-8BF5-45D2-AD75-0B4DD32D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83CDB-FAB1-4F2A-A605-8F24024C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45549-B1EC-4767-A168-101D9042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1630F-24CF-4141-8069-115484F2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E00F2-3156-4E94-B555-ADBD4771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0E04B-D067-434F-AE05-F6911202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D01A-059A-471C-858A-073B8E67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8F006-BD8F-45AC-BDE8-737D0CF8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1FB12-42F7-4F99-82C6-AB689153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F3CCC-2939-4D92-A711-18941CED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5B361-E6E3-4426-84F7-FD5E5FC1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5E060-C1BF-43B3-A213-A8128B45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54305-FD29-49B0-83B9-144628BB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86AF0-9B13-4A30-B9E2-A8D48CD7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DA4EA-70E1-4B22-AF45-4C7973A9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6EC3F-86F0-44B4-8109-AB802729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90522-930D-4137-A285-2E883AE5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A1C-EA93-45C1-9724-05B3B50C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478F6-C05D-493D-BB0A-45B51BD2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C9F26-2C6F-4250-ABC9-F0C99973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12432-635E-43C9-976F-EF7BD015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65A5D-F108-43E6-B933-DF72CCE5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88E36-5D8D-4AF4-8F98-597861D8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550E7-3666-4F01-93B5-07EBDBAA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C8317-9D58-48E3-A880-E2581D6B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3E3C5-BD93-4350-BF37-A9AB7C05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3D1A2-38EA-487C-A149-291D697B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6908B-BDCA-45D2-8A15-5B8CEBD6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ED0-E2BD-431B-AA6B-7000F951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A932F-F4F0-4425-8BCE-971E128E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C65D7-E868-4A21-987B-BE83C370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F974B-C9C4-4E79-AAB7-9421791E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FE275-2A73-4C07-AA4A-82D1B2D6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9CC17-93B7-4722-A317-65A37487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26297-0E77-4C03-B3BD-615C0F87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289FC-477E-42DB-9A18-F415A5A6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954F2-47CF-495D-A249-EE2AB14B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62F62-2BFB-4731-9D40-D82B389F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B5181-4D42-4047-874A-426AAA7B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68A-ABB6-4E6D-9A13-A88A660E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42764-1A87-4BC3-9E41-AC11FB3A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9C2A7-70BA-4CE6-929D-F25D7030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57142-6075-40E0-AB52-15D368D8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74D22-5D33-4F44-9DA2-8FD734D2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2332A-9A9F-468A-8E20-46780D50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26624-9A8F-47C5-A9FC-58BDD206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7709C-A38A-41B9-B29D-22FD5A24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ABB45-6FDD-44C2-B770-C806C222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FF834-DC12-42EA-82E0-855479E3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81C20-BBC0-4B72-892D-8423B4EF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0CE-9440-4DFD-8BD0-F03E20A6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C13FC-DBE9-4DC6-A442-1C6BA1AD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1F12F-BF12-48E4-AC14-44A68D7D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4AA44-A880-4DAB-B9D1-7C7F1684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C270F-89AE-4964-ADA3-23B411A2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45871-2F8A-421D-AE7D-D5C4BF66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EED1D-D7D9-4A70-B27B-7F39F7F3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AB9DC-E9A8-4F94-A7AB-408ACB40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5B208-E0AF-4D14-B457-02F932CA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07D0E-7F4C-48B7-964D-2E050730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EA53B-758B-46A5-A5CF-D92742AA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43A6-7DB1-493B-BE9D-CDCC2721B2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6F9B-1361-40D0-B0BB-54433BC73D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CE15-9ACF-4FC7-966A-3143CA12C6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F19B-57DB-4CA3-9BB1-8F8CEC7806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2F69-67DB-4008-864B-C8A55136AF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045C-82A7-47F5-871A-65355E7486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6CE1-A485-48B4-B249-BEEA475C80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C624-23B0-4536-BBA6-D4EE2BC87E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A97F-C74C-4AC7-A4BC-06B71E810F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91EB-4F63-4A61-A1B7-1C98186987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436E-B271-4D37-8A9A-C0F76015DC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0049-6B18-4E1B-8286-E277D10A06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1BEB-C627-4C2D-A860-4E6D50A9E5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42D5-0FBA-46AC-A763-258B0F83D9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87A5-F07B-46CE-852E-59680BE65E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08FA-987B-4258-9D21-B9D262193B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0CB5-B921-4708-BBB4-632AE9BEEE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1E89-F7D5-460E-98D2-FB1E99CFFF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F59E-7908-4CCC-86EC-B8FB717164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0E7B-2E90-4AA9-92A6-B89DBCF236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C1F1-98A9-4DE5-9D65-92CF532D07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B5C8-47F5-471A-BD91-FC8DEF23CB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669F-2923-4CC4-911B-9931D6703A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7506-E116-4657-B75A-80AE0EB6C3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2291-1787-4739-A761-B3682C0C38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C859-46AB-4322-A811-BE87D55420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7525-55E0-47D8-B0B5-E8F85683EE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DA8A-AE28-4C0E-A783-83F5C8BE83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2B72-5430-4BA0-9D08-A09499ADF4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8F11-30DE-468A-B129-7E4A7F991B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570E-DF09-4290-B14A-F4F3075A1A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3D59-DE7B-4439-9791-45B32FAF6D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882E-EDEC-4D30-9A49-F8A0319A39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996E-2F06-4E82-8DE1-EA948E7C91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49A0-4F74-48F0-9EAC-0DF8E81E36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45AA-6EF3-4412-8F63-1FF7DAFB7B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E0F5-ACDB-4A0C-8BE0-6366CF73C4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4937-7337-48F8-B024-F614972385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C62C-3195-4BF5-8169-34A441FB7C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E829-41F9-4065-8575-6041DC95A9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457280" y="2943360"/>
            <a:ext cx="622944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52231" descr=""/>
          <p:cNvPicPr/>
          <p:nvPr/>
        </p:nvPicPr>
        <p:blipFill>
          <a:blip r:embed="rId1"/>
          <a:stretch/>
        </p:blipFill>
        <p:spPr>
          <a:xfrm>
            <a:off x="247680" y="390600"/>
            <a:ext cx="8648640" cy="60768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2"/>
          <a:stretch/>
        </p:blipFill>
        <p:spPr>
          <a:xfrm>
            <a:off x="1692360" y="5905440"/>
            <a:ext cx="590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69633" descr=""/>
          <p:cNvPicPr/>
          <p:nvPr/>
        </p:nvPicPr>
        <p:blipFill>
          <a:blip r:embed="rId1"/>
          <a:stretch/>
        </p:blipFill>
        <p:spPr>
          <a:xfrm>
            <a:off x="676440" y="1938240"/>
            <a:ext cx="7791120" cy="29815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1258920" y="4249800"/>
            <a:ext cx="540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795240" y="743040"/>
            <a:ext cx="7553520" cy="53719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276720" y="3213000"/>
            <a:ext cx="136656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093080" y="3213000"/>
            <a:ext cx="136656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260880" y="4048200"/>
            <a:ext cx="136656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308720" y="4062240"/>
            <a:ext cx="136692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844720" y="4797360"/>
            <a:ext cx="136692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877080" y="4797360"/>
            <a:ext cx="136692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3059280" y="5589720"/>
            <a:ext cx="136656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093080" y="5589720"/>
            <a:ext cx="13665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552600" y="1357200"/>
            <a:ext cx="8038800" cy="41436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7164360" y="181620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6588000" y="2349360"/>
            <a:ext cx="64800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2916360" y="417816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2541600" y="472428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76801" descr=""/>
          <p:cNvPicPr/>
          <p:nvPr/>
        </p:nvPicPr>
        <p:blipFill>
          <a:blip r:embed="rId1"/>
          <a:stretch/>
        </p:blipFill>
        <p:spPr>
          <a:xfrm>
            <a:off x="299880" y="1523880"/>
            <a:ext cx="8544240" cy="38102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684360" y="3357720"/>
            <a:ext cx="2592360" cy="20872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2828880" y="2565360"/>
            <a:ext cx="167184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5580000" y="3429000"/>
            <a:ext cx="2592360" cy="20876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7724880" y="2637000"/>
            <a:ext cx="11682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8373" descr=""/>
          <p:cNvPicPr/>
          <p:nvPr/>
        </p:nvPicPr>
        <p:blipFill>
          <a:blip r:embed="rId1"/>
          <a:stretch/>
        </p:blipFill>
        <p:spPr>
          <a:xfrm>
            <a:off x="795240" y="1295280"/>
            <a:ext cx="7553520" cy="42674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2663640" cy="37447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2484360" y="1413000"/>
            <a:ext cx="187164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5580000" y="2133720"/>
            <a:ext cx="2952720" cy="25192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7380360" y="1484280"/>
            <a:ext cx="151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7352" descr=""/>
          <p:cNvPicPr/>
          <p:nvPr/>
        </p:nvPicPr>
        <p:blipFill>
          <a:blip r:embed="rId1"/>
          <a:stretch/>
        </p:blipFill>
        <p:spPr>
          <a:xfrm>
            <a:off x="309600" y="690480"/>
            <a:ext cx="8524800" cy="547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788508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7885080" y="4005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7956720" y="4797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7885080" y="560376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6324" descr=""/>
          <p:cNvPicPr/>
          <p:nvPr/>
        </p:nvPicPr>
        <p:blipFill>
          <a:blip r:embed="rId1"/>
          <a:stretch/>
        </p:blipFill>
        <p:spPr>
          <a:xfrm>
            <a:off x="290520" y="1562040"/>
            <a:ext cx="8562960" cy="373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3492360" y="4465800"/>
            <a:ext cx="100836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4788000" y="35877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6084720" y="4451400"/>
            <a:ext cx="1008360" cy="447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7308720" y="3587760"/>
            <a:ext cx="100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5300" descr=""/>
          <p:cNvPicPr/>
          <p:nvPr/>
        </p:nvPicPr>
        <p:blipFill>
          <a:blip r:embed="rId1"/>
          <a:stretch/>
        </p:blipFill>
        <p:spPr>
          <a:xfrm>
            <a:off x="380880" y="1314360"/>
            <a:ext cx="8382240" cy="42292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1332000" y="2492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6227640" y="2492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1332000" y="36306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6227640" y="3645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3059280" y="4797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5364000" y="479736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54276" descr=""/>
          <p:cNvPicPr/>
          <p:nvPr/>
        </p:nvPicPr>
        <p:blipFill>
          <a:blip r:embed="rId1"/>
          <a:stretch/>
        </p:blipFill>
        <p:spPr>
          <a:xfrm>
            <a:off x="281160" y="714240"/>
            <a:ext cx="8581680" cy="5429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684360" y="2476440"/>
            <a:ext cx="367164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611280" y="3284640"/>
            <a:ext cx="367164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539640" y="4076640"/>
            <a:ext cx="367200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539640" y="4811760"/>
            <a:ext cx="431964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539640" y="5575320"/>
            <a:ext cx="4319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01:5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